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BFA75-6F64-4DF3-A219-82A1B0E734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5831-5857-400F-8D32-CB7AB62B1C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602D-1979-4601-94DE-F7475BBC67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8B193-D76B-4FC0-84D9-4F9C5087AE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B46D-DA68-4D8A-BDB8-4F7BCEBB32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2DC0-E57B-491A-B120-76A3E1B251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FC1A-FFA2-4B66-866F-F5473886CB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454F-BB90-42FF-9AFB-BA6D075C64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11CB6-13A1-4E22-9CDC-49EF71A64A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7F0D-A953-4D90-930E-3E60EC6C5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1320-DEF1-45FF-9287-0D0BB58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E7D4-8F9A-4949-97DD-127A72D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085E-8799-4A99-ADE1-A416CF024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7F4C-CA6E-410B-8164-29B44210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1973-8D09-49C6-88F9-41A9B97E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73F2-0A3B-4683-B463-B9FF32E3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54AA-43FB-4EF5-85BC-6D66FADA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F9F6-3D70-4B2D-8D67-D70BEB1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BE0E-43D2-4931-AB98-074145B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6272-CF20-4DD4-8A00-A08AA48A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5DD7-D15C-431A-A724-9EE03BD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737D7E-60CC-4322-968E-892DA690A36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240600" cy="5150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2 CuadroTexto"/>
          <p:cNvSpPr/>
          <p:nvPr/>
        </p:nvSpPr>
        <p:spPr>
          <a:xfrm>
            <a:off x="3851280" y="765000"/>
            <a:ext cx="151272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3 CuadroTexto"/>
          <p:cNvSpPr/>
          <p:nvPr/>
        </p:nvSpPr>
        <p:spPr>
          <a:xfrm>
            <a:off x="3708360" y="6021360"/>
            <a:ext cx="151128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ál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Conector recto"/>
          <p:cNvSpPr/>
          <p:nvPr/>
        </p:nvSpPr>
        <p:spPr>
          <a:xfrm>
            <a:off x="3059280" y="4292640"/>
            <a:ext cx="0" cy="194472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3 Conector recto"/>
          <p:cNvSpPr/>
          <p:nvPr/>
        </p:nvSpPr>
        <p:spPr>
          <a:xfrm>
            <a:off x="5724360" y="4653000"/>
            <a:ext cx="0" cy="158436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7 Conector recto"/>
          <p:cNvSpPr/>
          <p:nvPr/>
        </p:nvSpPr>
        <p:spPr>
          <a:xfrm>
            <a:off x="3059280" y="6237360"/>
            <a:ext cx="64908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68 Conector recto"/>
          <p:cNvSpPr/>
          <p:nvPr/>
        </p:nvSpPr>
        <p:spPr>
          <a:xfrm>
            <a:off x="5219640" y="6237360"/>
            <a:ext cx="50472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72 Conector recto"/>
          <p:cNvSpPr/>
          <p:nvPr/>
        </p:nvSpPr>
        <p:spPr>
          <a:xfrm>
            <a:off x="1835280" y="981000"/>
            <a:ext cx="0" cy="244800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74 Conector recto"/>
          <p:cNvSpPr/>
          <p:nvPr/>
        </p:nvSpPr>
        <p:spPr>
          <a:xfrm>
            <a:off x="7524720" y="907920"/>
            <a:ext cx="0" cy="295272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76 Conector recto"/>
          <p:cNvSpPr/>
          <p:nvPr/>
        </p:nvSpPr>
        <p:spPr>
          <a:xfrm>
            <a:off x="5364000" y="907920"/>
            <a:ext cx="216072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78 Conector recto"/>
          <p:cNvSpPr/>
          <p:nvPr/>
        </p:nvSpPr>
        <p:spPr>
          <a:xfrm>
            <a:off x="1835280" y="907920"/>
            <a:ext cx="201600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19280" y="5516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ép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84 Conector recto"/>
          <p:cNvSpPr/>
          <p:nvPr/>
        </p:nvSpPr>
        <p:spPr>
          <a:xfrm flipH="1">
            <a:off x="2411280" y="443628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124000" y="17733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t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88 Conector recto"/>
          <p:cNvSpPr/>
          <p:nvPr/>
        </p:nvSpPr>
        <p:spPr>
          <a:xfrm>
            <a:off x="2411280" y="2133720"/>
            <a:ext cx="432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89 CuadroTexto"/>
          <p:cNvSpPr/>
          <p:nvPr/>
        </p:nvSpPr>
        <p:spPr>
          <a:xfrm>
            <a:off x="324000" y="4221000"/>
            <a:ext cx="1511280" cy="642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inece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isti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90 Conector recto"/>
          <p:cNvSpPr/>
          <p:nvPr/>
        </p:nvSpPr>
        <p:spPr>
          <a:xfrm flipV="1">
            <a:off x="1835280" y="3357720"/>
            <a:ext cx="2665440" cy="118728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94 CuadroTexto"/>
          <p:cNvSpPr/>
          <p:nvPr/>
        </p:nvSpPr>
        <p:spPr>
          <a:xfrm>
            <a:off x="7164360" y="4724280"/>
            <a:ext cx="151128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droc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95 Conector recto"/>
          <p:cNvSpPr/>
          <p:nvPr/>
        </p:nvSpPr>
        <p:spPr>
          <a:xfrm>
            <a:off x="5867280" y="3141720"/>
            <a:ext cx="2052720" cy="158256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156360" y="198900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mb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101 Conector recto"/>
          <p:cNvSpPr/>
          <p:nvPr/>
        </p:nvSpPr>
        <p:spPr>
          <a:xfrm flipV="1">
            <a:off x="6084720" y="234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04 CuadroTexto"/>
          <p:cNvSpPr/>
          <p:nvPr/>
        </p:nvSpPr>
        <p:spPr>
          <a:xfrm>
            <a:off x="6227640" y="5732640"/>
            <a:ext cx="26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ncha sobre androceo y gineceo para saber má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776680" cy="39621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1341360"/>
            <a:ext cx="806472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á formado por los estambres. Cada estambr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filamento: cuya función es elevar la ant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a antera: en cuyo interior se forman los granos de polen. Dichos granos contienen los gametos mascul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androc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60680" y="39322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t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92560" y="4181400"/>
            <a:ext cx="8776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124680" y="44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os de pól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730840" y="586116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lam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H="1" flipV="1">
            <a:off x="4797000" y="5705640"/>
            <a:ext cx="98100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90600" y="53402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2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onector recto"/>
          <p:cNvSpPr/>
          <p:nvPr/>
        </p:nvSpPr>
        <p:spPr>
          <a:xfrm>
            <a:off x="5292000" y="3716280"/>
            <a:ext cx="83196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5 Conector recto"/>
          <p:cNvSpPr/>
          <p:nvPr/>
        </p:nvSpPr>
        <p:spPr>
          <a:xfrm flipH="1">
            <a:off x="4355640" y="4752360"/>
            <a:ext cx="176868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886040" cy="4049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34920" y="1274760"/>
            <a:ext cx="806472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órgano reproductor femenino y tiene forma de bot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a de tres par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Ovario: la parte ancha. En su interior están los gametos femen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ilo: es la parte alar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igma: es el extremo sup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ginec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182760" y="47433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v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952800" y="4933800"/>
            <a:ext cx="1197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783480" y="440532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389640" y="580716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meni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5455800" y="5751000"/>
            <a:ext cx="98100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5967360" y="4251240"/>
            <a:ext cx="8524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7142040" y="30909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ig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6327720" y="2935080"/>
            <a:ext cx="85248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390600" y="53402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2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1:23Z</dcterms:modified>
  <cp:revision>51</cp:revision>
  <dc:subject/>
  <dc:title>Diapositiva 1</dc:title>
</cp:coreProperties>
</file>